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9EB-3DA9-427F-930A-DA422AE5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A3D-F7F7-414C-B16F-71C9DA3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32C-881F-41CF-AD79-14949136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B24-9210-47FF-A12A-258EFB02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FEF-F3EF-460D-A5AC-476C1B9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84D-DECF-4F9F-8808-460D856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AAE-CD0E-4F88-ADCF-399E8111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274-2838-4FBA-8350-BCACAE0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751-49FC-4BEF-A367-E28A6B0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0B3-36D2-4C41-8D79-534D62A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0EA-1D32-4868-A425-8E4C1D9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288-7B45-4FA3-8FE6-271BC94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BC6B-CBE7-4837-8E4B-15227A3A0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l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sn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h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mo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to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g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l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-360"/>
            <a:ext cx="5105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goa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rainb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l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wb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goalpo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croak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bellow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ro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toas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6. scarecro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oatme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floa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shad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fung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trong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2-03T23:52:58Z</dcterms:modified>
  <cp:revision>8</cp:revision>
  <dc:subject/>
  <dc:title>The Art Lesson Group A</dc:title>
</cp:coreProperties>
</file>